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86B6-6D8D-4A65-8D32-932A6FBF8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724A-DFC8-44EF-8B06-73086A669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F133-F926-4BDF-914F-5B5A3775E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2E7C-F3BA-4999-BBA5-3BEB931F0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2223A-1757-4D3A-AD38-C89FA5493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01692-83BD-412E-AF81-9B874568C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7CF47-9B12-4252-9D73-B4CBB9833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C8C8C-DAD0-43AE-B766-C41EA9D90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0E4D8-B97D-4D31-BBE7-D3ACEE101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19F50-827B-41D7-AA4E-6BC3A37BC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7ACE4-FD68-4A24-9093-46583D740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4070-C4F2-4E20-BA7E-F0593D5CD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2CA68-D894-4E96-8073-6E1A2154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E28E2-FBD4-41A2-84F3-DA6E49E91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6D282-D8FD-4283-B043-75AB531FD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E25DD-C09A-4300-B549-3396128FD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4D57F-BA90-49AF-8F3B-A0430B8AA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5C67-32E2-4C54-AA65-AEF0ED2BA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CE0B-14C4-41A3-9044-575687C2B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ACCE-FE7F-4FCD-907B-2EA55495A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F900-7E76-4DA7-8F82-C6678328F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2249-E221-452F-8A0A-E36FD68A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11B1-F618-4AF8-B2AB-F507CF95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FB41-D6E7-476F-A6CA-00594734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9988C-BF50-4874-8FE1-D70914B90901}" type="slidenum">
              <a:rPr b="0" lang="pl-PL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25BB1-6F0C-4955-88B1-E29DF937CF8B}" type="slidenum">
              <a:rPr b="0" lang="pl-PL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09560" y="907920"/>
            <a:ext cx="2514600" cy="2514600"/>
          </a:xfrm>
          <a:prstGeom prst="ellipse">
            <a:avLst/>
          </a:prstGeom>
          <a:noFill/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670040"/>
            <a:ext cx="4724280" cy="114300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62520" y="1670040"/>
            <a:ext cx="472428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517760"/>
            <a:ext cx="228600" cy="14493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848720" y="1203480"/>
            <a:ext cx="261720" cy="13716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55640" y="981000"/>
            <a:ext cx="2371680" cy="23688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Arial"/>
              </a:rPr>
              <a:t>? 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700000" y="2997000"/>
            <a:ext cx="59770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292929"/>
                </a:solidFill>
                <a:latin typeface="Arial"/>
              </a:rPr>
              <a:t>Dziecko uczy się raczkować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292929"/>
                </a:solidFill>
                <a:latin typeface="Arial"/>
              </a:rPr>
              <a:t>Stawiać pierwsze kroki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292929"/>
                </a:solidFill>
                <a:latin typeface="Arial"/>
              </a:rPr>
              <a:t>Dopiero później </a:t>
            </a:r>
            <a:r>
              <a:rPr b="1" lang="pl-PL" sz="3200" spc="-1" strike="noStrike">
                <a:solidFill>
                  <a:srgbClr val="292929"/>
                </a:solidFill>
                <a:latin typeface="Arial"/>
              </a:rPr>
              <a:t>chodzić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292929"/>
                </a:solidFill>
                <a:latin typeface="Arial"/>
              </a:rPr>
              <a:t>A w końcu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292929"/>
                </a:solidFill>
                <a:latin typeface="Arial"/>
              </a:rPr>
              <a:t>.... </a:t>
            </a:r>
            <a:r>
              <a:rPr b="1" lang="pl-PL" sz="3600" spc="-1" strike="noStrike">
                <a:solidFill>
                  <a:srgbClr val="292929"/>
                </a:solidFill>
                <a:latin typeface="Arial"/>
              </a:rPr>
              <a:t>biegać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Bliżej ucznia i nauczycie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292929"/>
                </a:solidFill>
                <a:latin typeface="Arial"/>
              </a:rPr>
              <a:t>Szkolny Lider TI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292929"/>
                </a:solidFill>
                <a:latin typeface="Arial"/>
              </a:rPr>
              <a:t>Opolszczyzna 2000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292929"/>
                </a:solidFill>
                <a:latin typeface="Arial"/>
              </a:rPr>
              <a:t>EkoOpolszczyzn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292929"/>
                </a:solidFill>
                <a:latin typeface="Arial"/>
              </a:rPr>
              <a:t>EduBaz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Województwo opolsk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050920" y="1557360"/>
          <a:ext cx="4889520" cy="693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557360"/>
                    <a:ext cx="4889520" cy="693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Dziękuje za uwag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292929"/>
                </a:solidFill>
                <a:latin typeface="Arial"/>
              </a:rPr>
              <a:t>Lesław Tomczak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292929"/>
                </a:solidFill>
                <a:latin typeface="Arial"/>
              </a:rPr>
              <a:t>tom@wodip.opole.p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omóc czy stać z boku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292929"/>
                </a:solidFill>
                <a:latin typeface="Arial"/>
              </a:rPr>
              <a:t>Dziecko uczy się chodzić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292929"/>
                </a:solidFill>
                <a:latin typeface="Arial"/>
              </a:rPr>
              <a:t>Czy potrzebuje na tym etapie pomocy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292929"/>
                </a:solidFill>
                <a:latin typeface="Arial"/>
              </a:rPr>
              <a:t>Oczywiście? </a:t>
            </a:r>
            <a:r>
              <a:rPr b="0" lang="pl-PL" sz="32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l-PL" sz="3200" spc="-1" strike="noStrike">
                <a:solidFill>
                  <a:srgbClr val="292929"/>
                </a:solidFill>
                <a:latin typeface="Arial"/>
              </a:rPr>
              <a:t>T  A  K ? !!! 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292929"/>
                </a:solidFill>
                <a:latin typeface="Arial"/>
              </a:rPr>
              <a:t>Nauka jest wtedy mniej bolesna i o ile przyjemniejsza(dla ciała i ducha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292929"/>
                </a:solidFill>
                <a:latin typeface="Arial"/>
              </a:rPr>
              <a:t>Jaka jest wtedy przyszłość klienta nauki chodzenia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Dziecko uczy się jazdy na rowerz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98520" indent="-39852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292929"/>
                </a:solidFill>
                <a:latin typeface="Arial"/>
              </a:rPr>
              <a:t>Czy pomoc jest potrzebna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11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292929"/>
                </a:solidFill>
                <a:latin typeface="Arial"/>
              </a:rPr>
              <a:t>                       </a:t>
            </a:r>
            <a:r>
              <a:rPr b="1" lang="pl-PL" sz="3200" spc="-1" strike="noStrike">
                <a:solidFill>
                  <a:srgbClr val="292929"/>
                </a:solidFill>
                <a:latin typeface="Arial"/>
              </a:rPr>
              <a:t>N I E ! ???</a:t>
            </a:r>
            <a:r>
              <a:rPr b="1" lang="pl-PL" sz="44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11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292929"/>
                </a:solidFill>
                <a:latin typeface="Arial"/>
              </a:rPr>
              <a:t>A czy jest istotna dla dziecka i innych użytkowników drogi?</a:t>
            </a:r>
            <a:r>
              <a:rPr b="1" lang="pl-PL" sz="4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11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292929"/>
                </a:solidFill>
                <a:latin typeface="Arial"/>
              </a:rPr>
              <a:t>                      </a:t>
            </a:r>
            <a:r>
              <a:rPr b="1" lang="pl-PL" sz="4400" spc="-1" strike="noStrike">
                <a:solidFill>
                  <a:srgbClr val="292929"/>
                </a:solidFill>
                <a:latin typeface="Arial"/>
              </a:rPr>
              <a:t>T A K !!!          </a:t>
            </a:r>
            <a:endParaRPr b="0" lang="en-US" sz="44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292929"/>
                </a:solidFill>
                <a:latin typeface="Arial"/>
              </a:rPr>
              <a:t>W czasie nauki można ukierunkować je na przestrzeganie pewnych zasad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184212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Nauczyci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292929"/>
                </a:solidFill>
                <a:latin typeface="Arial"/>
              </a:rPr>
              <a:t>Nauczyciel uczy dzieci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292929"/>
                </a:solidFill>
                <a:latin typeface="Arial"/>
              </a:rPr>
              <a:t>K T O  uczy nauczyciela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292929"/>
                </a:solidFill>
                <a:latin typeface="Arial"/>
              </a:rPr>
              <a:t>K T O mu pomaga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292929"/>
                </a:solidFill>
                <a:latin typeface="Arial"/>
              </a:rPr>
              <a:t>K T O mu pomaga w nauce i w uczeniu...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ystem doskonalenia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nauczycieli oparty jest o ...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 algn="ctr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292929"/>
                </a:solidFill>
                <a:latin typeface="Arial"/>
              </a:rPr>
              <a:t>Doradców</a:t>
            </a:r>
            <a:br>
              <a:rPr sz="3200"/>
            </a:br>
            <a:r>
              <a:rPr b="0" lang="pl-PL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292929"/>
                </a:solidFill>
                <a:latin typeface="Arial"/>
              </a:rPr>
              <a:t>Konsultantów</a:t>
            </a:r>
            <a:br>
              <a:rPr sz="3200"/>
            </a:br>
            <a:r>
              <a:rPr b="0" lang="pl-PL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ctr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292929"/>
                </a:solidFill>
                <a:latin typeface="Arial"/>
              </a:rPr>
              <a:t>Specjalistów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Jakie są ich zadani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292929"/>
                </a:solidFill>
                <a:latin typeface="Arial"/>
              </a:rPr>
              <a:t>Wspierać nauczyciela w pracy z uczniami i w pracy nad sobą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292929"/>
                </a:solidFill>
                <a:latin typeface="Arial"/>
              </a:rPr>
              <a:t>Być zawsze pomocnym wtedy gdy nauczyciel tej pomocy potrzebuj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292929"/>
                </a:solidFill>
                <a:latin typeface="Arial"/>
              </a:rPr>
              <a:t>I wtedy .... </a:t>
            </a:r>
            <a:r>
              <a:rPr b="1" lang="pl-PL" sz="3200" spc="-1" strike="noStrike">
                <a:solidFill>
                  <a:srgbClr val="292929"/>
                </a:solidFill>
                <a:latin typeface="Arial"/>
              </a:rPr>
              <a:t>G d y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292929"/>
                </a:solidFill>
                <a:latin typeface="Arial"/>
              </a:rPr>
              <a:t>O jej potrzebie jeszcze nie wie!!!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Gdzie  </a:t>
            </a:r>
            <a:r>
              <a:rPr b="1" lang="pl-PL" sz="4000" spc="-1" strike="noStrike">
                <a:solidFill>
                  <a:srgbClr val="000000"/>
                </a:solidFill>
                <a:latin typeface="Arial"/>
              </a:rPr>
              <a:t>o n i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 są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16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92929"/>
                </a:solidFill>
                <a:latin typeface="Arial"/>
              </a:rPr>
              <a:t>Doradcy - w szkol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16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292929"/>
                </a:solidFill>
                <a:latin typeface="Arial"/>
              </a:rPr>
              <a:t>Konsultanci - w placówkach doskonaleni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16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292929"/>
                </a:solidFill>
                <a:latin typeface="Arial"/>
              </a:rPr>
              <a:t>Specjaliści  - w placówkach doskonalenia i uczelniach</a:t>
            </a:r>
            <a:r>
              <a:rPr b="0" lang="pl-PL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Kim powinni być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292929"/>
                </a:solidFill>
                <a:latin typeface="Arial"/>
              </a:rPr>
              <a:t>Doradca - </a:t>
            </a:r>
            <a:r>
              <a:rPr b="1" lang="pl-PL" sz="3200" spc="-1" strike="noStrike">
                <a:solidFill>
                  <a:srgbClr val="292929"/>
                </a:solidFill>
                <a:latin typeface="Arial"/>
              </a:rPr>
              <a:t>przyjacielem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9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292929"/>
                </a:solidFill>
                <a:latin typeface="Arial"/>
              </a:rPr>
              <a:t>Konsultant - </a:t>
            </a:r>
            <a:r>
              <a:rPr b="1" lang="pl-PL" sz="3600" spc="-1" strike="noStrike">
                <a:solidFill>
                  <a:srgbClr val="292929"/>
                </a:solidFill>
                <a:latin typeface="Arial"/>
              </a:rPr>
              <a:t>mistrzem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10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292929"/>
                </a:solidFill>
                <a:latin typeface="Arial"/>
              </a:rPr>
              <a:t>Specjalista - </a:t>
            </a:r>
            <a:r>
              <a:rPr b="1" lang="pl-PL" sz="4000" spc="-1" strike="noStrike">
                <a:solidFill>
                  <a:srgbClr val="292929"/>
                </a:solidFill>
                <a:latin typeface="Arial"/>
              </a:rPr>
              <a:t>arcymistrzem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26920" y="169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Jedną z placówek z mistrzami i przyjaciółmi nauczyciela jest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187280" y="278100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292929"/>
                </a:solidFill>
                <a:latin typeface="Arial"/>
              </a:rPr>
              <a:t>Wojewódzki Ośrodek Doskonalenia Informatycznego i Politechnicznego w Opolu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292929"/>
                </a:solidFill>
                <a:latin typeface="Arial"/>
              </a:rPr>
              <a:t>www.wodip.opole.p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6T20:40:16Z</dcterms:created>
  <dc:creator>Bartosz Tomczak</dc:creator>
  <dc:description/>
  <dc:language>en-US</dc:language>
  <cp:lastModifiedBy>Stanisław Rożniatowski</cp:lastModifiedBy>
  <dcterms:modified xsi:type="dcterms:W3CDTF">2002-09-20T08:35:25Z</dcterms:modified>
  <cp:revision>8</cp:revision>
  <dc:subject/>
  <dc:title>? !!!</dc:title>
</cp:coreProperties>
</file>